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E80-F480-44D7-86A8-EBD6D99A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B62-DD49-4B29-9406-65B363C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CDD-9934-4C19-8435-1972B202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5F8D-F46E-4FE1-95F8-1D7AF1D6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6AE-8DD3-4BCF-AF41-0C151566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AF1-A2CF-4F64-8862-2F8D3458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9CB-4AE6-48D6-A0FE-520E6233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46F-7CB6-4E61-BF04-3DF684A8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CDB-86CE-467E-9F82-F46E5845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813-3BAC-42A8-B0A4-80B3235D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23A-0D43-4D9A-AB5B-43B4138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4E0-5A2C-4800-BDDB-0264A5F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E506-15F4-47E6-B81B-574D8EAE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slide" Target="slide4.xml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4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4f1"/>
                </a:solidFill>
                <a:latin typeface="Arial"/>
              </a:rPr>
              <a:t>The Cat &amp; Mouse Game</a:t>
            </a:r>
            <a:br>
              <a:rPr sz="4000"/>
            </a:br>
            <a:r>
              <a:rPr b="0" lang="en-US" sz="2000" spc="-1" strike="noStrike">
                <a:solidFill>
                  <a:srgbClr val="fe94f1"/>
                </a:solidFill>
                <a:latin typeface="Arial"/>
              </a:rPr>
              <a:t>By: Alex</a:t>
            </a:r>
            <a:r>
              <a:rPr b="0" lang="en-US" sz="4000" spc="-1" strike="noStrike">
                <a:solidFill>
                  <a:srgbClr val="fe94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838080"/>
            <a:ext cx="190476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57200"/>
            <a:ext cx="1857240" cy="128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72400" y="64904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kowabunga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48720" y="62478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h5.google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5105520"/>
            <a:ext cx="171432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96080" y="6019200"/>
            <a:ext cx="12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.discovery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58000" y="3962520"/>
            <a:ext cx="1962000" cy="1209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0120" y="579060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mh.com.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563796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xtremesled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3581280" y="3808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0" y="5485680"/>
            <a:ext cx="100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gn.com.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C -0.00208 -0.02314 -0.00278 -0.06018 0.01406 -0.07499 C 0.0217 -0.09027 0.03472 -0.09467 0.04688 -0.09999 C 0.05208 -0.0986 0.05747 -0.09814 0.0625 -0.09583 C 0.06493 -0.09467 0.06649 -0.09143 0.06875 -0.08958 C 0.08003 -0.07985 0.09358 -0.07106 0.10313 -0.05833 C 0.10503 -0.05578 0.1059 -0.05254 0.10781 -0.04999 C 0.11406 -0.04166 0.11997 -0.03564 0.125 -0.02499 C 0.13125 -0.01157 0.13542 0.00603 0.13906 0.02084 C 0.14028 0.0257 0.14358 0.02894 0.14531 0.03334 C 0.15417 0.05718 0.16337 0.0801 0.17656 0.10001 C 0.18785 0.11714 0.19913 0.14885 0.21563 0.15626 C 0.22639 0.1669 0.21944 0.16112 0.2375 0.17084 C 0.24965 0.17732 0.26094 0.18612 0.27344 0.19167 C 0.2816 0.18843 0.28663 0.18774 0.29375 0.18126 C 0.30503 0.1713 0.29063 0.17709 0.30625 0.17292 C 0.32083 0.16135 0.33889 0.1544 0.35156 0.13959 C 0.36059 0.12917 0.3651 0.11297 0.375 0.10417 C 0.37865 0.08982 0.38264 0.07315 0.38906 0.06042 C 0.39115 0.04885 0.39566 0.03843 0.39844 0.02709 C 0.40347 0.00695 0.40521 -0.01643 0.40781 -0.03749 C 0.4092 -0.0868 0.4184 -0.17198 0.37969 -0.20624 C 0.36788 -0.20393 0.36788 -0.20115 0.35781 -0.19791 C 0.34201 -0.18101 0.35903 -0.19768 0.33906 -0.18333 C 0.32569 -0.17384 0.31285 -0.16365 0.29844 -0.15624 C 0.29063 -0.15231 0.28212 -0.14976 0.275 -0.14374 C 0.2651 -0.13541 0.25885 -0.12013 0.25156 -0.10833 C 0.24635 -0.09976 0.2408 -0.09259 0.23594 -0.08333 C 0.22865 -0.06921 0.22326 -0.05323 0.21563 -0.03958 C 0.21198 -0.02013 0.21701 -0.04397 0.20938 -0.02083 C 0.20851 -0.01828 0.20851 -0.01527 0.20781 -0.01249 C 0.20694 -0.00948 0.20573 -0.00694 0.20469 -0.00416 C 0.20069 0.03311 0.19149 0.06922 0.18594 0.10626 C 0.18698 0.14376 0.18056 0.17686 0.20938 0.18959 C 0.22153 0.20163 0.23455 0.20417 0.24844 0.21042 C 0.26042 0.20973 0.2724 0.20996 0.28438 0.20834 C 0.30538 0.20556 0.32257 0.18496 0.34219 0.17709 C 0.35035 0.17385 0.35747 0.17315 0.36563 0.16876 C 0.36771 0.16598 0.36944 0.16274 0.37188 0.16042 C 0.37326 0.15903 0.37535 0.15973 0.37656 0.15834 C 0.38281 0.15163 0.38698 0.13936 0.39219 0.13126 C 0.40122 0.11737 0.40955 0.10302 0.41719 0.08751 C 0.41806 0.08195 0.42031 0.07663 0.42031 0.07084 C 0.42031 0.05163 0.4184 0.0514 0.4125 0.03751 C 0.40677 0.02431 0.40417 0.01181 0.39688 5.55556E-006 C 0.39323 -0.00601 0.38819 -0.01087 0.38438 -0.01666 C 0.37396 -0.0324 0.36424 -0.04768 0.35313 -0.06249 C 0.34149 -0.078 0.33403 -0.09606 0.31875 -0.10624 C 0.30052 -0.13657 0.26528 -0.15323 0.25156 -0.18958 C 0.24462 -0.20786 0.23698 -0.22685 0.23125 -0.24583 C 0.22917 -0.25277 0.225 -0.26666 0.225 -0.26666 C 0.21892 -0.31527 0.22604 -0.34351 0.23125 -0.38541 C 0.23316 -0.40115 0.2342 -0.41597 0.2375 -0.43124 C 0.24184 -0.47823 0.24271 -0.5111 0.26875 -0.54583 C 0.27292 -0.55138 0.28229 -0.5537 0.2875 -0.55833 C 0.30052 -0.55763 0.31354 -0.5574 0.32656 -0.55624 C 0.34149 -0.55485 0.35347 -0.53935 0.36719 -0.53333 C 0.37309 -0.52546 0.37778 -0.51944 0.38594 -0.51666 C 0.39479 -0.50485 0.40608 -0.49884 0.41406 -0.48541 C 0.42257 -0.47106 0.42708 -0.45138 0.43594 -0.43958 C 0.44115 -0.42222 0.44635 -0.40509 0.45156 -0.38749 C 0.4526 -0.38425 0.45226 -0.38055 0.45313 -0.37708 C 0.45382 -0.37407 0.45521 -0.37152 0.45625 -0.36874 C 0.46354 -0.32013 0.4599 -0.34814 0.45625 -0.23749 C 0.45538 -0.2111 0.44323 -0.15393 0.43281 -0.13333 C 0.42951 -0.1162 0.41753 -0.10555 0.40625 -0.09791 C 0.38524 -0.08379 0.36319 -0.07198 0.33906 -0.07083 C 0.31302 -0.06967 0.28698 -0.06944 0.26094 -0.06874 C 0.22708 -0.07222 0.20972 -0.07222 0.17031 -0.07083 C 0.16198 -0.06342 0.15226 -0.0618 0.14375 -0.05416 C 0.13993 -0.04652 0.13611 -0.03981 0.13125 -0.03333 C 0.12743 -0.01828 0.12674 -0.00323 0.125 0.01251 C 0.12309 0.0301 0.11892 0.04677 0.11719 0.06459 C 0.11615 0.0889 0.12014 0.09815 0.10938 0.11251 C 0.10729 0.12084 0.10451 0.12223 0.09844 0.12501 C 0.09253 0.15672 0.1151 0.17315 0.13438 0.18334 C 0.1467 0.19978 0.17378 0.20903 0.19063 0.21459 C 0.21163 0.21228 0.23003 0.20973 0.25156 0.20834 C 0.25625 0.20209 0.25938 0.19862 0.26563 0.19584 C 0.26892 0.18265 0.26823 0.16945 0.27188 0.15626 C 0.27292 0.15209 0.27396 0.14792 0.275 0.14376 C 0.27552 0.14167 0.27656 0.13751 0.27656 0.13751 C 0.27483 0.12825 0.27656 0.13126 0.27344 0.12709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33 0.06 0.06267 0.137 0.064 C 0.198 0.06667 0.248 0.05067 0.249 0.03067 C 0.249 0.01067 0.2 -0.008 0.138 -0.00933 C 0.107 -0.00933 0.079 -0.00667 0.059 0 C 0.03 0.00933 0.013 0.024 0.013 0.04133 C 0.013 0.05067 0.018 0.06 0.027 0.068 C 0.048 0.08533 0.089 0.09733 0.136 0.09867 C 0.191 0.10133 0.236 0.08667 0.236 0.06933 C 0.237 0.05067 0.192 0.03467 0.137 0.032 C 0.109 0.032 0.084 0.03467 0.065 0.04 C 0.04 0.04933 0.024 0.064 0.024 0.07867 C 0.024 0.08667 0.029 0.09467 0.037 0.10267 C 0.056 0.11733 0.092 0.12933 0.135 0.13067 C 0.185 0.132 0.225 0.11867 0.225 0.10267 C 0.226 0.08667 0.186 0.072 0.136 0.07067 C 0.111 0.06933 0.088 0.072 0.071 0.07733 C 0.048 0.08533 0.035 0.09733 0.035 0.112 C 0.035 0.11867 0.039 0.12667 0.046 0.13333 C 0.063 0.14667 0.096 0.15733 0.134 0.15867 C 0.179 0.15867 0.215 0.148 0.215 0.13333 C 0.215 0.11867 0.18 0.10533 0.135 0.104 C 0.113 0.104 0.092 0.10667 0.077 0.11067 C 0.056 0.11733 0.044 0.12933 0.043 0.14133 C 0.043 0.148 0.048 0.15467 0.054 0.16 C 0.069 0.17333 0.099 0.18267 0.133 0.18267 C 0.173 0.184 0.206 0.17467 0.206 0.16133 C 0.207 0.148 0.174 0.136 0.134 0.13467 C 0.114 0.13467 0.095 0.136 0.082 0.14133 C 0.063 0.14667 0.052 0.15733 0.052 0.168 C 0.052 0.17467 0.055 0.18 0.061 0.18533 C 0.075 0.19733 0.101 0.20533 0.132 0.20667 C 0.169 0.20667 0.198 0.19867 0.198 0.18667 C 0.199 0.17467 0.17 0.164 0.133 0.16267 C 0.115 0.16267 0.099 0.164 0.087 0.168 C 0.07 0.17333 0.06 0.18267 0.06 0.19333 C 0.06 0.19867 0.063 0.20267 0.068 0.208 C 0.08 0.21867 0.104 0.22533 0.132 0.22667 C 0.165 0.228 0.191 0.22 0.191 0.208 C 0.191 0.19867 0.166 0.188 0.133 0.188 C 0.116 0.18667 0.101 0.18933 0.09 0.192 C 0.075 0.19733 0.066 0.20533 0.066 0.21467 C 0.066 0.22 0.069 0.224 0.074 0.228 C 0.085 0.23733 0.107 0.244 0.131 0.24533 C 0.161 0.24667 0.185 0.23867 0.185 0.22933 C 0.185 0.21867 0.161 0.21067 0.132 0.20933 C 0.118 0.20933 0.104 0.21067 0.094 0.21467 C 0.08 0.21867 0.072 0.22533 0.072 0.23467 C 0.072 0.23867 0.075 0.24267 0.079 0.24667 C 0.089 0.25467 0.108 0.26133 0.131 0.26133 C 0.157 0.26267 0.179 0.256 0.179 0.24667 C 0.179 0.23867 0.158 0.23067 0.131 0.23067 C 0.119 0.22933 0.106 0.23067 0.097 0.23333 C 0.085 0.23867 0.078 0.24533 0.078 0.252 C 0.078 0.256 0.08 0.26 0.084 0.26267 C 0.093 0.27067 0.11 0.276 0.131 0.27733 C 0.155 0.27733 0.174 0.27067 0.174 0.264 C 0.174 0.256 0.155 0.248 0.131 0.248 C 0.119 0.248 0.108 0.24933 0.101 0.252 C 0.089 0.25467 0.083 0.26133 0.083 0.268 C 0.083 0.27067 0.085 0.27467 0.088 0.27733 C 0.096 0.28533 0.112 0.28933 0.13 0.29067 C 0.152 0.29067 0.169 0.28533 0.169 0.27867 C 0.169 0.27067 0.152 0.26533 0.131 0.264 C 0.12 0.264 0.11 0.26533 0.103 0.268 C 0.093 0.27067 0.087 0.276 0.087 0.28267 C 0.087 0.28533 0.089 0.288 0.092 0.29067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01 0.29074 C 0.09618 0.30764 0.11146 0.31134 0.1217 0.31991 C 0.12778 0.325 0.13212 0.3294 0.13889 0.33241 C 0.14479 0.32986 0.15 0.32616 0.15608 0.32407 C 0.1658 0.31551 0.17778 0.31528 0.18889 0.31157 C 0.18976 0.32315 0.19097 0.34421 0.19514 0.35532 C 0.20608 0.38449 0.22205 0.40741 0.23733 0.43241 C 0.24826 0.45023 0.23871 0.44051 0.24826 0.44907 C 0.25087 0.45949 0.2559 0.46018 0.26233 0.46574 C 0.27066 0.47315 0.27882 0.47963 0.28733 0.48657 C 0.2967 0.49421 0.31007 0.50648 0.32014 0.51157 C 0.33108 0.51713 0.34253 0.52338 0.35295 0.53032 C 0.36076 0.53542 0.36719 0.54375 0.37483 0.54907 C 0.38837 0.55856 0.40156 0.56944 0.41545 0.57824 C 0.42101 0.58171 0.42708 0.5831 0.43264 0.58657 C 0.46649 0.60741 0.44548 0.59977 0.46233 0.60532 C 0.46823 0.59537 0.47135 0.58796 0.47483 0.57616 C 0.47778 0.5493 0.48055 0.50417 0.46858 0.48032 C 0.46684 0.46829 0.46441 0.45926 0.4592 0.44907 C 0.45694 0.43704 0.45364 0.43218 0.44826 0.42199 C 0.41354 0.35579 0.44722 0.41528 0.42326 0.37616 C 0.41111 0.35625 0.39757 0.33981 0.3842 0.32199 C 0.37726 0.31273 0.3717 0.30324 0.36389 0.29491 C 0.36024 0.2956 0.35642 0.29514 0.35295 0.29699 C 0.35087 0.29815 0.35 0.30162 0.34826 0.30324 C 0.3375 0.31366 0.31701 0.32106 0.3092 0.33449 C 0.29687 0.35555 0.30243 0.34768 0.29358 0.35949 C 0.28976 0.38981 0.29739 0.42222 0.31701 0.44074 C 0.32535 0.44884 0.33733 0.45185 0.34358 0.46366 C 0.34496 0.4662 0.34514 0.46991 0.3467 0.47199 C 0.34826 0.47407 0.35087 0.47454 0.35295 0.47616 C 0.35625 0.4787 0.36632 0.48819 0.3717 0.49074 C 0.38316 0.4963 0.3842 0.49421 0.3967 0.49907 C 0.4066 0.50278 0.41649 0.50741 0.42639 0.51157 C 0.43524 0.51528 0.4441 0.51805 0.45295 0.52199 C 0.46076 0.52546 0.46875 0.53403 0.47639 0.53866 C 0.49635 0.55093 0.47795 0.53889 0.50139 0.55116 C 0.5309 0.56667 0.55955 0.58472 0.59045 0.59491 C 0.58125 0.59907 0.58958 0.59398 0.57951 0.60741 C 0.57378 0.61505 0.5658 0.62407 0.5592 0.63032 C 0.55382 0.63542 0.54739 0.63935 0.54201 0.64491 C 0.5375 0.6493 0.53403 0.65509 0.52951 0.65949 C 0.5276 0.66134 0.52517 0.6618 0.52326 0.66366 C 0.51649 0.67037 0.51059 0.6794 0.50295 0.68449 C 0.49948 0.6868 0.49566 0.68704 0.49201 0.68866 C 0.48125 0.68704 0.47778 0.68796 0.46858 0.68241 C 0.45035 0.67153 0.47621 0.6838 0.4592 0.67616 C 0.43646 0.65347 0.4217 0.61991 0.4092 0.58657 C 0.40608 0.54444 0.40798 0.48843 0.39201 0.45116 C 0.39045 0.43935 0.38819 0.43055 0.3842 0.41991 C 0.38368 0.40741 0.38333 0.39491 0.38264 0.38241 C 0.38229 0.37407 0.38316 0.36528 0.38108 0.35741 C 0.38055 0.35532 0.37795 0.3588 0.37639 0.35949 C 0.36267 0.37315 0.36128 0.36759 0.33889 0.36574 C 0.33733 0.36366 0.33611 0.36111 0.3342 0.35949 C 0.33281 0.35833 0.32882 0.35532 0.32951 0.35741 C 0.33316 0.36968 0.34792 0.37778 0.35451 0.38657 C 0.36476 0.40023 0.37014 0.41343 0.37639 0.43032 C 0.38212 0.47639 0.37587 0.5243 0.38264 0.56991 C 0.38455 0.58241 0.3941 0.5993 0.39983 0.60949 C 0.40156 0.6162 0.4059 0.62153 0.40764 0.62824 C 0.40816 0.63032 0.40816 0.63264 0.4092 0.63449 C 0.41094 0.63773 0.41371 0.63981 0.41545 0.64282 C 0.41736 0.64606 0.41805 0.65023 0.42014 0.65324 C 0.42187 0.65579 0.42448 0.65718 0.42639 0.65949 C 0.42969 0.66343 0.43576 0.67199 0.43576 0.67199 C 0.43767 0.68449 0.43958 0.69722 0.44201 0.70949 C 0.44288 0.71366 0.44514 0.72199 0.44514 0.72199 C 0.44358 0.76296 0.44358 0.74838 0.44358 0.76574 E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30139 C -0.00677 0.29838 -0.01007 0.29399 -0.01562 0.28889 C -0.02587 0.2794 -0.03663 0.275 -0.04687 0.26598 C -0.05642 0.25741 -0.06389 0.24537 -0.07187 0.23473 C -0.07917 0.225 -0.08333 0.21065 -0.09219 0.20348 C -0.09479 0.20139 -0.09757 0.19977 -0.1 0.19723 C -0.10347 0.19352 -0.10573 0.1882 -0.10937 0.18473 C -0.12396 0.17084 -0.14444 0.16505 -0.16094 0.15764 C -0.17014 0.15348 -0.17656 0.14769 -0.18594 0.14514 C -0.1934 0.14005 -0.20122 0.13542 -0.20955 0.13264 C -0.22847 0.11737 -0.25052 0.10811 -0.26875 0.09098 C -0.2849 0.07593 -0.30017 0.0595 -0.31562 0.04306 C -0.3375 0.01968 -0.35816 -0.00625 -0.37986 -0.02986 C -0.39028 -0.04143 -0.39809 -0.05416 -0.41111 -0.06111 C -0.41806 -0.07037 -0.42396 -0.07245 -0.43281 -0.07777 C -0.44913 -0.08773 -0.46528 -0.09351 -0.48281 -0.09861 C -0.5092 -0.10625 -0.53576 -0.11342 -0.5625 -0.11944 C -0.56997 -0.12106 -0.57691 -0.12615 -0.58437 -0.12777 C -0.60017 -0.13125 -0.61528 -0.1375 -0.63125 -0.14027 C -0.64809 -0.14884 -0.6651 -0.1493 -0.68281 -0.15277 C -0.69479 -0.15092 -0.69861 -0.15046 -0.70781 -0.14236 C -0.7125 -0.13333 -0.7184 -0.12731 -0.72205 -0.11736 C -0.72587 -0.10694 -0.72899 -0.09652 -0.73281 -0.08611 C -0.73455 -0.075 -0.73576 -0.06388 -0.7375 -0.05277 C -0.73646 -0.03611 -0.73576 -0.01944 -0.73437 -0.00277 C -0.73368 0.00556 -0.73281 0.01389 -0.73125 0.02223 C -0.73056 0.02593 -0.72743 0.02894 -0.72812 0.03264 C -0.72865 0.03473 -0.73125 0.03125 -0.73281 0.03056 C -0.73576 0.01875 -0.74028 0.00811 -0.74687 -0.00069 C -0.75312 -0.04259 -0.7776 -0.07708 -0.79531 -0.11111 C -0.79983 -0.1199 -0.80312 -0.12963 -0.80781 -0.13819 C -0.81736 -0.15601 -0.8276 -0.17291 -0.8375 -0.19027 C -0.84219 -0.19814 -0.84323 -0.20879 -0.84688 -0.21736 C -0.84983 -0.22407 -0.85469 -0.22939 -0.85781 -0.23611 C -0.86302 -0.24675 -0.87188 -0.26944 -0.87188 -0.26944 C -0.87135 -0.27847 -0.8717 -0.28773 -0.87031 -0.29652 C -0.86806 -0.31134 -0.85694 -0.32013 -0.84844 -0.32777 C -0.7441 -0.3 -0.67153 -0.19305 -0.59062 -0.10902 C -0.56215 -0.07939 -0.53264 -0.05162 -0.50469 -0.02152 C -0.49514 -0.01111 -0.48542 -0.00416 -0.47656 0.00764 C -0.47257 0.02338 -0.47847 0.00463 -0.47031 0.01806 C -0.46806 0.02176 -0.46753 0.02662 -0.46562 0.03056 C -0.46215 0.04931 -0.46684 0.02732 -0.45937 0.04931 C -0.45139 0.07246 -0.44288 0.09514 -0.43437 0.11806 C -0.41667 0.16551 -0.39792 0.22454 -0.35625 0.24306 C -0.34427 0.25903 -0.35642 0.24399 -0.34062 0.25973 C -0.32986 0.27061 -0.32378 0.28056 -0.31094 0.28473 C -0.30885 0.28681 -0.30729 0.29121 -0.30469 0.29098 C -0.3 0.29051 -0.29635 0.28542 -0.29219 0.28264 C -0.28993 0.28125 -0.28333 0.27917 -0.28142 0.27848 C -0.27066 0.26899 -0.2592 0.26737 -0.25469 0.24931 C -0.25573 0.22431 -0.25712 0.20209 -0.26267 0.17848 C -0.26354 0.17408 -0.26528 0.16366 -0.26875 0.15973 C -0.27153 0.15649 -0.27812 0.15139 -0.27812 0.15139 C -0.32118 0.15394 -0.35712 0.16459 -0.39844 0.17848 C -0.41458 0.175 -0.42708 0.15926 -0.43906 0.14514 C -0.44792 0.13473 -0.45903 0.12732 -0.46562 0.11389 C -0.4651 0.09514 -0.46615 0.07616 -0.46406 0.05764 C -0.46337 0.05093 -0.4566 0.04537 -0.45469 0.03889 C -0.44948 0.02176 -0.44045 0.00834 -0.43281 -0.00694 C -0.43056 -0.01851 -0.42656 -0.02708 -0.42344 -0.03819 C -0.41979 -0.05115 -0.41667 -0.06435 -0.41406 -0.07777 C -0.41458 -0.1 -0.41441 -0.12222 -0.4158 -0.14444 C -0.41667 -0.16365 -0.42187 -0.18356 -0.42344 -0.20277 C -0.42222 -0.22106 -0.41997 -0.23657 -0.41875 -0.25486 C -0.4184 -0.27175 -0.42309 -0.31481 -0.4125 -0.33611 C -0.41198 -0.33958 -0.41181 -0.34328 -0.41111 -0.34652 C -0.41024 -0.34884 -0.40851 -0.35046 -0.40781 -0.35277 C -0.40486 -0.36527 -0.4033 -0.38148 -0.40156 -0.39444 C -0.40122 -0.39791 -0.40052 -0.40138 -0.4 -0.40486 C -0.39913 -0.41041 -0.39687 -0.42152 -0.39687 -0.42152 C -0.39653 -0.43194 -0.39549 -0.44236 -0.39531 -0.45277 C -0.39444 -0.48888 -0.39618 -0.52523 -0.39375 -0.56111 C -0.39358 -0.56481 -0.38542 -0.56875 -0.38281 -0.56944 C -0.36441 -0.575 -0.36649 -0.57361 -0.34531 -0.57569 C -0.31649 -0.58541 -0.29288 -0.58333 -0.26267 -0.58194 C -0.20642 -0.56064 -0.26788 -0.58634 -0.22674 -0.56319 C -0.2092 -0.55347 -0.19097 -0.54814 -0.175 -0.53402 C -0.17326 -0.52291 -0.1724 -0.5118 -0.17031 -0.50069 C -0.16823 -0.45902 -0.16615 -0.4162 -0.15781 -0.37569 C -0.15625 -0.35625 -0.15486 -0.3368 -0.15312 -0.31736 C -0.15399 -0.29166 -0.1533 -0.26851 -0.15937 -0.24444 C -0.16441 -0.17685 -0.16944 -0.10949 -0.17656 -0.04236 C -0.17483 -0.00717 -0.16788 0.02477 -0.16424 0.05973 C -0.15781 0.11875 -0.15573 0.17825 -0.14687 0.23681 C -0.14635 0.2507 -0.14618 0.26459 -0.14531 0.27848 C -0.14514 0.28264 -0.14549 0.2875 -0.14375 0.29098 C -0.14253 0.29352 -0.13958 0.29375 -0.1375 0.29514 C -0.12604 0.29005 -0.13125 0.29213 -0.12187 0.28889 C -0.12083 0.28681 -0.12066 0.28218 -0.11875 0.28264 C -0.11753 0.28287 -0.10538 0.29375 -0.10156 0.29723 C -0.10104 0.3007 -0.10226 0.30579 -0.1 0.30764 C -0.09792 0.30926 -0.08889 0.30487 -0.08594 0.30348 C -0.0849 0.29931 -0.08472 0.29468 -0.08281 0.29098 C -0.08177 0.28889 -0.08038 0.28704 -0.07969 0.28473 C -0.07465 0.26968 -0.07222 0.25255 -0.06875 0.23681 C -0.06736 0.23056 -0.06493 0.22454 -0.06406 0.21806 C -0.06111 0.19422 -0.0559 0.17084 -0.05156 0.14723 C -0.04896 0.13287 -0.04271 0.11991 -0.04062 0.10556 C -0.03802 0.08843 -0.03906 0.09862 -0.03906 0.07431 E"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C -0.11736 -0.02986 -0.22934 -0.07871 -0.34201 -0.13125 C -0.64878 -0.27431 -0.49583 -0.1919 -0.67899 -0.29468 C -0.67691 -0.33635 -0.68403 -0.38079 -0.67257 -0.41945 C -0.6691 -0.43125 -0.65451 -0.41088 -0.64514 -0.40857 C -0.61944 -0.40232 -0.5934 -0.39908 -0.56753 -0.39352 C -0.46875 -0.37199 -0.3691 -0.3551 -0.27101 -0.32685 C 0.07257 -0.22755 0.4184 -0.11482 0.76771 -0.05602 C 0.78195 -0.04931 0.73125 -0.01551 0.73056 -0.01505 C 0.71094 -0.00093 0.69167 0.01458 0.67101 0.02569 C 0.60712 0.06041 0.54202 0.09028 0.47743 0.12245 C 0.31198 0.20509 0.12535 0.22731 -0.04844 0.2581 C -0.13229 0.27291 -0.20989 0.28287 -0.28715 0.33125 C -0.30573 0.34282 -0.32274 0.35532 -0.33559 0.37639 C -0.33889 0.39467 -0.32691 0.40764 -0.31458 0.41296 C -0.28055 0.42801 -0.24583 0.44074 -0.21128 0.4537 C -0.09548 0.49745 -0.03628 0.51296 0.1 0.55278 C 0.15712 0.56944 0.22188 0.57963 0.27743 0.60648 C 0.25643 0.6243 0.20764 0.61875 0.19028 0.61944 C 0.11024 0.61296 0.02952 0.61365 -0.05 0.6 C -0.15989 0.58125 -0.2684 0.54884 -0.37743 0.52245 C -0.42795 0.51018 -0.47812 0.49352 -0.52899 0.48379 C -0.66198 0.45856 -0.61267 0.47361 -0.67899 0.45162 C -0.6743 0.47708 -0.61232 0.50509 -0.60816 0.5074 C -0.56857 0.53032 -0.52969 0.55625 -0.48871 0.57407 C -0.23559 0.68356 -0.17326 0.70648 0.05 0.76134 C 0.16268 0.78912 0.2092 0.79791 0.31615 0.81296 C 0.35052 0.81782 0.41927 0.82569 0.41927 0.82569 C 0.42205 0.82639 0.42622 0.82477 0.42743 0.82801 C 0.42847 0.83055 0.42327 0.82963 0.42101 0.83009 C 0.41181 0.83194 0.40278 0.8331 0.39358 0.83449 C 0.17656 0.82014 -0.02153 0.72014 -0.23073 0.64722 C -0.37344 0.59745 -0.36719 0.59514 -0.5033 0.56342 C -0.65503 0.52801 -0.65312 0.52824 -0.61128 0.5419 C -0.38854 0.53125 -0.1658 0.49722 0.05486 0.45578 C 0.10764 0.43541 0.16754 0.42291 0.20972 0.37199 C 0.21354 0.34629 0.20347 0.34097 0.18542 0.32685 C 0.13524 0.28773 0.09115 0.26273 0.03386 0.23865 C 0.0184 0.23217 -0.30746 0.10463 -0.37899 0.08171 C -0.47292 0.05162 -0.66128 -0.00857 -0.66128 -0.00857 C -0.66719 -0.02084 -0.67621 -0.03102 -0.67899 -0.04514 C -0.69097 -0.10556 -0.64687 -0.10787 -0.61302 -0.11829 C -0.52448 -0.1456 -0.46649 -0.15324 -0.37257 -0.16783 C -0.13403 -0.20463 0.10608 -0.21111 0.34514 -0.24097 C 0.48559 -0.25834 0.62448 -0.2882 0.76441 -0.31181 C 0.75695 -0.26042 0.63698 -0.1581 0.63386 -0.15486 C 0.52431 -0.04468 0.40295 0.0493 0.26927 0.09676 C 0.18438 0.12685 0.12709 0.12963 0.03872 0.1419 C -0.20521 0.13125 -0.44618 0.08379 -0.67899 -0.01713 C -0.62378 -0.0801 -0.67361 -0.02917 -0.49357 0.02569 C -0.34861 0.0699 -0.20764 0.13611 -0.06302 0.18287 C 0.11181 0.23958 0.28542 0.30231 0.46129 0.35278 C 0.63125 0.40139 0.97101 0.49884 0.97101 0.49884 C 0.96962 0.73333 1.03212 0.77153 0.91927 0.80208 C 0.88924 0.81018 0.85938 0.8199 0.82899 0.82361 C 0.78663 0.8287 0.7441 0.82662 0.70156 0.82801 C 0.41597 0.81967 0.12934 0.81412 -0.1533 0.75046 C -0.32274 0.71227 -0.65972 0.62153 -0.65972 0.62153 C -0.6809 0.5669 -0.71684 0.49375 -0.67743 0.42801 C -0.66146 0.40139 -0.62691 0.43796 -0.60156 0.44305 C -0.50104 0.46296 -0.40278 0.50023 -0.3033 0.52893 C -0.0684 0.59653 0.16094 0.69629 0.39514 0.76782 C 0.48577 0.7956 0.57674 0.82106 0.66771 0.84722 C 0.74288 0.86898 0.89358 0.9118 0.89358 0.9118 C 0.91945 0.92685 0.95191 0.9294 0.97101 0.95694 C 0.98195 0.97268 0.98507 1.01666 0.96927 1.02153 C 0.93229 1.03287 0.89445 1.00509 0.85799 0.99143 C 0.75365 0.95208 0.64948 0.9125 0.54514 0.87315 C 0.48108 0.84884 0.4158 0.83194 0.35156 0.80856 C 0.18177 0.74653 0.0132 0.6794 -0.15642 0.61713 C -0.22882 0.59051 -0.30156 0.56643 -0.3743 0.5419 C -0.46215 0.51203 -0.63871 0.4537 -0.63871 0.4537 C -0.65208 0.43217 -0.67482 0.41666 -0.67899 0.38912 C -0.72292 0.09907 -0.57569 0.23148 -0.37899 0.23449 C -0.1526 0.24421 0.07361 0.24977 0.3 0.2537 C 0.45 0.25162 0.78212 0.26574 0.97101 0.23865 C 0.97049 0.23518 0.97188 0.22708 0.96927 0.22801 C 0.94549 0.23611 0.92622 0.26041 0.90313 0.27106 C 0.87986 0.28194 0.85573 0.28865 0.83229 0.29884 C 0.71667 0.34884 0.76129 0.33796 0.64028 0.38287 C 0.43577 0.45879 0.23924 0.51898 0.02743 0.54398 C -0.04253 0.54051 -0.1125 0.54051 -0.18229 0.53333 C -0.26337 0.525 -0.34427 0.48889 -0.41944 0.44953 C -0.42604 0.43565 -0.42569 0.4412 -0.40486 0.42569 C -0.37257 0.40162 -0.33264 0.38287 -0.29844 0.36782 C -0.23576 0.34028 -0.17257 0.31481 -0.10972 0.28819 C -0.0743 0.27338 -0.03906 0.25764 -0.00486 0.23865 C 0.06424 0.20023 0.12934 0.1493 0.2 0.1162 C 0.29531 0.07153 0.28212 0.08472 0.36441 0.02153 C 0.38368 0.00671 0.40035 -0.01505 0.42101 -0.02593 C 0.4632 -0.04815 0.50816 -0.06019 0.55156 -0.07755 C 0.55643 -0.0794 0.56615 -0.0838 0.56615 -0.0838 C 0.51233 -0.1206 0.57327 -0.08033 0.40156 -0.09676 C 0.30365 -0.10602 0.2059 -0.11968 0.10799 -0.13125 C -0.14896 -0.16135 -0.40642 -0.21412 -0.66128 -0.26875 C -0.66719 -0.27871 -0.67656 -0.28658 -0.67899 -0.29885 C -0.69114 -0.35903 -0.59948 -0.34885 -0.58559 -0.35047 C -0.55052 -0.3544 -0.5158 -0.35741 -0.48073 -0.35926 C -0.33837 -0.36713 -0.19583 -0.3669 -0.0533 -0.36991 C 0.04427 -0.37824 0.13056 -0.38426 0.22743 -0.39792 C 0.31806 -0.41065 0.40504 -0.42755 0.49514 -0.43658 C 0.50816 -0.43241 0.47518 -0.41158 0.46285 -0.4044 C 0.44219 -0.3926 0.42136 -0.38125 0.4 -0.37199 C 0.32899 -0.34097 0.26042 -0.32176 0.18698 -0.30116 C -0.07621 -0.22685 -0.34114 -0.19144 -0.60972 -0.17639 C -0.63281 -0.17269 -0.65625 -0.17199 -0.67899 -0.16551 C -0.68107 -0.16482 -0.67951 -0.15787 -0.67743 -0.15695 C -0.6691 -0.15371 -0.66024 -0.15556 -0.65156 -0.15486 C -0.60417 -0.1507 -0.50972 -0.1419 -0.50972 -0.1419 C -0.18906 -0.07639 0.12031 0.03518 0.43386 0.1419 C 0.61372 0.20301 0.73125 0.22801 0.88872 0.30115 C 0.94584 0.32778 0.93646 0.32129 0.96771 0.35046 C 0.9783 0.37106 0.9441 0.38981 0.93542 0.39352 C 0.87552 0.41921 0.83941 0.41736 0.77257 0.42569 C 0.67639 0.41921 0.57986 0.41759 0.48386 0.40648 C 0.10868 0.36296 -0.26232 0.28125 -0.63871 0.25162 C -0.65208 0.25509 -0.66979 0.24884 -0.67899 0.26227 C -0.7059 0.30115 -0.6401 0.34074 -0.63073 0.34629 C -0.51562 0.41412 -0.39375 0.4456 -0.27257 0.48819 C -0.14062 0.53449 -0.0092 0.58333 0.12257 0.63009 C 0.18854 0.65347 0.25486 0.67569 0.32101 0.69884 C 0.48559 0.75648 0.66215 0.80254 0.82101 0.88819 C 0.76563 0.90671 0.78577 0.90231 0.67899 0.89028 C 0.61198 0.88264 0.45261 0.84259 0.39514 0.82801 C 0.13299 0.76111 -0.12378 0.66574 -0.38385 0.58703 C -0.60156 0.52106 -0.50364 0.55856 -0.67899 0.48171 C -0.67795 0.47453 -0.68125 0.46157 -0.67587 0.46018 C -0.66805 0.4581 -0.66215 0.47106 -0.65486 0.47523 C -0.6026 0.50463 -0.54132 0.53171 -0.48698 0.54838 C -0.38541 0.57986 -0.28281 0.60578 -0.18073 0.63449 C 0.08785 0.70995 0.37049 0.75115 0.64514 0.76134 C 0.66615 0.75995 0.68715 0.76018 0.70799 0.75694 C 0.71424 0.75602 0.72639 0.75671 0.7257 0.74838 C 0.725 0.73912 0.71302 0.74051 0.70643 0.73773 C 0.60156 0.69421 0.48386 0.64861 0.37743 0.61065 C 0.09965 0.51157 -0.17882 0.41805 -0.45642 0.31828 C -0.52257 0.29444 -0.65486 0.24722 -0.65486 0.24722 C -0.66285 0.22639 -0.67396 0.2074 -0.67899 0.18495 C -0.6816 0.17338 -0.68542 0.1544 -0.67743 0.14838 C -0.65955 0.13495 -0.63646 0.14166 -0.61614 0.13773 C -0.4651 0.10879 -0.59722 0.12801 -0.4243 0.1118 C -0.29548 0.09977 -0.16771 0.08217 -0.03871 0.07523 C 0.06563 0.06944 0.31233 0.06759 0.37257 0.06666 C 0.38715 0.06528 0.43021 0.0669 0.41615 0.06227 C 0.38941 0.05324 0.36129 0.05602 0.33386 0.0537 C 0.22899 0.04467 0.16719 0.04375 0.05799 0.03217 C -0.19045 0.00578 -0.44305 -0.02616 -0.67899 -0.13773 C -0.67795 -0.14051 -0.6783 -0.1463 -0.67587 -0.1463 C -0.67153 -0.1463 -0.66875 -0.13912 -0.66458 -0.13773 C -0.6566 -0.13542 -0.64844 -0.13588 -0.64028 -0.13542 C -0.62101 -0.13449 -0.60156 -0.13403 -0.58229 -0.13334 C -0.31666 -0.09445 -0.05104 -0.05741 0.21441 -0.01713 C 0.37188 0.00671 0.53038 0.01273 0.68698 0.04514 C 0.61667 0.07245 0.45521 0.04606 0.43229 0.04514 C 0.34722 0.03541 0.2625 0.02407 0.17743 0.01713 C 0.13125 0.00833 0.15504 0.01065 0.10643 0.01065 E">
                                      <p:cBhvr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713 C -0.01337 0.08727 -0.0125 0.09398 -0.01493 0.11643 C -0.01267 0.22662 -0.00278 0.32616 0.05764 0.40671 C 0.075 0.42986 0.14878 0.45139 0.15764 0.45417 C 0.2283 0.47685 0.21267 0.47338 0.28993 0.49074 C 0.38403 0.51134 0.35451 0.50625 0.44323 0.51435 C 0.48958 0.51042 0.59479 0.52384 0.62865 0.45185 C 0.63646 0.43542 0.63941 0.41458 0.64323 0.39583 C 0.64878 0.31574 0.65243 0.23565 0.65451 0.15509 C 0.65347 0.08842 0.6526 0.02176 0.65122 -0.04491 C 0.65069 -0.0669 0.64896 -0.08982 0.64149 -0.10926 C 0.63507 -0.1537 0.57188 -0.16435 0.54792 -0.16736 C 0.52708 -0.17014 0.50608 -0.17037 0.48507 -0.17176 C 0.35642 -0.16389 0.32135 -0.17199 0.21094 -0.13727 C -0.01944 -0.06482 -0.22066 0.10648 -0.28906 0.42153 C -0.29132 0.47986 -0.29792 0.51921 -0.28264 0.5743 C -0.22604 0.78032 -0.01753 0.91829 0.13177 0.95949 C 0.16684 0.96921 0.20278 0.97245 0.23837 0.97893 C 0.29271 0.97454 0.34722 0.97477 0.40122 0.96597 C 0.57465 0.9375 0.66823 0.76875 0.72378 0.56597 C 0.73368 0.47454 0.73854 0.47592 0.72049 0.36597 C 0.70208 0.25301 0.60747 0.13912 0.52865 0.10139 C 0.49514 0.08518 0.44601 0.08102 0.4125 0.07569 C 0.37118 0.07917 0.32934 0.07847 0.28837 0.08611 C 0.23403 0.0963 0.17899 0.13565 0.13351 0.17454 C 0.13073 0.18032 0.11094 0.21458 0.11094 0.23055 C 0.11094 0.29653 0.14479 0.32176 0.18663 0.34653 C 0.25017 0.38403 0.31319 0.42268 0.37865 0.45417 C 0.62101 0.56967 0.84358 0.64259 1.10122 0.65625 C 1.14184 0.65116 1.17101 0.65625 1.20278 0.62616 C 1.21302 0.60579 1.18351 0.5743 1.17535 0.56597 C 1.10955 0.49884 1.02378 0.44815 0.94479 0.41759 C 0.85313 0.38217 0.7599 0.3544 0.66736 0.32292 C 0.61094 0.3037 0.55243 0.29815 0.49479 0.28842 C 0.35208 0.26458 0.20764 0.25694 0.06406 0.24768 C 0.0125 0.25278 -0.03924 0.25579 -0.0908 0.26273 C -0.10677 0.26481 -0.1066 0.26782 -0.11337 0.27986 C -0.1 0.29051 -0.10417 0.28935 -0.08108 0.28842 C -0.00416999999999999 0.28518 0.07274 0.27986 0.14965 0.27569 C 0.26163 0.24491 0.37222 0.21204 0.47708 0.14884 C 0.52135 0.12222 0.57517 0.08125 0.60122 0.02407 C 0.58177 0.01065 0.59514 0.01805 0.54965 0.02176 C 0.38316 0.03495 0.61146 0.02199 0.39792 0.03264 C 0.15243 0.06018 -0.09097 0.08171 -0.3375 0.08842 C -0.35313 0.09051 -0.36892 0.09051 -0.3842 0.09491 C -0.38628 0.0956 -0.37986 0.09815 -0.37778 0.09722 C -0.34792 0.08495 -0.31753 0.0743 -0.2875 0.06273 C -0.22726 0.03981 -0.1658 0.02268 -0.10521 0.00255 C 0.0625 -0.05278 0.22865 -0.12199 0.39479 -0.18449 C 0.43628 -0.2 0.55972 -0.24213 0.60764 -0.25556 C 0.63351 -0.26273 0.68507 -0.27708 0.68507 -0.27708 C 0.66528 -0.23056 0.62483 -0.20347 0.58993 -0.18241 C 0.51094 -0.13472 0.45139 -0.09213 0.37049 -0.06204 C 0.31615 -0.0419 0.26094 -0.02593 0.20608 -0.00833 C 0.16858 0.0037 0.12604 0.00995 0.08993 0.03055 C 0.10486 0.04005 0.09115 0.03264 0.12222 0.0368 C 0.18299 0.04467 0.24392 0.05139 0.30451 0.06042 C 0.34861 0.06713 0.39271 0.07592 0.43663 0.08426 C 0.48403 0.09329 0.53108 0.10486 0.57865 0.11204 C 0.62257 0.11921 0.66684 0.12106 0.71094 0.12731 C 0.74653 0.13217 0.78177 0.13958 0.81736 0.14444 C 0.84531 0.14792 0.87326 0.14977 0.90122 0.15301 C 0.9217 0.15532 0.9625 0.16157 0.9625 0.16157 C 0.93559 0.21435 0.90295 0.22731 0.85451 0.26921 C 0.84566 0.27685 0.64757 0.41574 0.60608 0.44305 C 0.53299 0.4919 0.44427 0.53403 0.39149 0.62153 C 0.39045 0.62592 0.38715 0.63241 0.39479 0.63264 C 0.48073 0.63472 0.56684 0.6338 0.65278 0.63472 C 0.69097 0.63565 0.73819 0.62801 0.77708 0.6456 C 0.77083 0.66528 0.75469 0.67731 0.74149 0.68842 C 0.70365 0.71991 0.67656 0.73889 0.63177 0.75741 C 0.48663 0.81759 0.33212 0.81667 0.18177 0.82176 C 0.12656 0.82592 0.04618 0.84028 -0.00208 0.81967 C 0.04288 0.74051 0.10833 0.7044 0.16406 0.6412 C 0.18663 0.61551 0.20573 0.59583 0.22535 0.56597 C 0.2342 0.55231 0.24115 0.5368 0.24965 0.52292 C 0.25469 0.51458 0.26042 0.50717 0.2658 0.49907 C 0.27205 0.47824 0.27587 0.46759 0.27378 0.4456 C 0.19878 0.44884 0.13594 0.44606 0.05764 0.4412 C 0.01545 0.43565 -0.02656 0.42986 -0.06649 0.40903 C -0.06389 0.40046 -0.06267 0.39051 -0.05851 0.3831 C -0.05503 0.37662 -0.02396 0.34884 -0.02135 0.34653 C 0.05503 0.28055 -0.02135 0.34537 0.0592 0.29074 C 0.08785 0.2713 0.11493 0.24838 0.14323 0.22824 C 0.18194 0.20046 0.19427 0.18148 0.23993 0.17014 C 0.25556 0.17083 0.28663 0.17245 0.28663 0.17245 E">
                                      <p:cBhvr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01 0.10185 C 0.01615 0.09768 0.01181 0.09583 0.00643 0.09328 C -0.02812 0.10185 -0.06146 0.12152 -0.09184 0.1449 C -0.10191 0.15277 -0.11076 0.16319 -0.12083 0.17083 C -0.13333 0.18032 -0.14739 0.18634 -0.15955 0.19652 C -0.17378 0.20856 -0.18593 0.225 -0.2 0.2375 C -0.24861 0.28078 -0.31163 0.31504 -0.36128 0.34722 C -0.41736 0.38356 -0.40139 0.37685 -0.45312 0.40301 C -0.46371 0.40833 -0.47482 0.41273 -0.48541 0.41805 C -0.49045 0.4206 -0.50503 0.4287 -0.5 0.42662 C -0.4776 0.41713 -0.45816 0.40277 -0.43698 0.39004 C -0.39253 0.36319 -0.36267 0.32176 -0.35486 0.25671 C -0.35607 0.21805 -0.35191 0.18171 -0.38541 0.17083 C -0.39722 0.17152 -0.4092 0.1706 -0.42083 0.17291 C -0.4375 0.17639 -0.45295 0.1949 -0.46441 0.20949 C -0.50573 0.2618 -0.52413 0.3287 -0.53698 0.40092 C -0.53906 0.44977 -0.54149 0.4743 -0.53385 0.52986 C -0.53177 0.54514 -0.52587 0.55902 -0.52083 0.57268 C -0.50816 0.6074 -0.48628 0.64768 -0.45955 0.66504 C -0.42083 0.69051 -0.37587 0.69074 -0.33385 0.69328 C -0.33003 0.69282 -0.28646 0.6868 -0.28055 0.68472 C -0.25764 0.67662 -0.25746 0.67106 -0.23871 0.65648 C -0.23698 0.65532 -0.20503 0.6331 -0.20156 0.6287 C -0.18455 0.6081 -0.17291 0.58287 -0.16284 0.55578 C -0.16041 0.54143 -0.15521 0.52754 -0.15486 0.51273 C -0.15399 0.46412 -0.1533 0.3912 -0.19826 0.38148 C -0.26753 0.3868 -0.30347 0.42152 -0.36614 0.47407 C -0.43316 0.53032 -0.47534 0.5875 -0.49514 0.69328 C -0.49427 0.73102 -0.49826 0.7625 -0.48698 0.79652 C -0.47743 0.82523 -0.4559 0.84352 -0.43541 0.85671 C -0.3776 0.89421 -0.31423 0.89514 -0.25156 0.90185 C -0.21771 0.90046 -0.18368 0.90162 -0.15 0.89768 C -0.10278 0.89213 -0.04045 0.85578 -0.01128 0.80301 C -0.000869999999999999 0.78402 0.004 0.75972 0.00972 0.73842 C 0.01302 0.70926 0.01719 0.6824 0.01615 0.65254 C 0.01268 0.55347 -0.02396 0.45139 -0.09028 0.40092 C -0.10486 0.38981 -0.12031 0.38078 -0.13541 0.37083 C -0.14305 0.36574 -0.21284 0.35416 -0.22899 0.35139 C -0.27656 0.35277 -0.29722 0.34838 -0.33871 0.36227 C -0.41823 0.38889 -0.4842 0.45578 -0.50312 0.56412 C -0.50486 0.59444 -0.50607 0.62546 -0.49826 0.65463 C -0.47482 0.74166 -0.40434 0.75926 -0.34357 0.76828 C -0.31771 0.76504 -0.29166 0.76458 -0.26614 0.75764 C -0.17639 0.73426 -0.10781 0.6375 -0.07743 0.52777 C -0.06597 0.43703 -0.06857 0.30671 -0.15486 0.2956 C -0.24739 0.30046 -0.32968 0.33958 -0.41614 0.38148 C -0.50729 0.42546 -0.6026 0.47824 -0.66927 0.575 C -0.67257 0.58588 -0.67847 0.5956 -0.67899 0.6074 C -0.6842 0.71527 -0.62656 0.77268 -0.55312 0.78796 C -0.5375 0.78518 -0.5217 0.78402 -0.50642 0.77916 C -0.42951 0.75416 -0.37951 0.64768 -0.35798 0.55347 C -0.35694 0.53981 -0.35364 0.52639 -0.35486 0.51273 C -0.35677 0.49143 -0.35642 0.46736 -0.36614 0.45023 C -0.36771 0.44745 -0.37066 0.44629 -0.37257 0.44398 C -0.38646 0.42685 -0.38281 0.4243 -0.39826 0.41805 C -0.40625 0.41481 -0.41458 0.41389 -0.42257 0.41157 C -0.48472 0.41689 -0.53403 0.42523 -0.58229 0.48055 C -0.59045 0.49004 -0.60364 0.50926 -0.60955 0.52129 C -0.61545 0.53379 -0.62569 0.55995 -0.62569 0.55995 C -0.62899 0.57963 -0.63298 0.6 -0.62899 0.62014 C -0.61267 0.7037 -0.52326 0.71018 -0.47257 0.7125 C -0.37934 0.69884 -0.2401 0.675 -0.17569 0.56643 C -0.16753 0.55277 -0.16389 0.53842 -0.15798 0.52338 C -0.15903 0.51759 -0.15937 0.51157 -0.16128 0.50625 C -0.16302 0.50139 -0.17153 0.49514 -0.17413 0.49328 C -0.19392 0.47893 -0.21823 0.48148 -0.24028 0.47824 C -0.32378 0.48495 -0.43455 0.49282 -0.49028 0.59236 C -0.49253 0.61018 -0.49548 0.6243 -0.48541 0.64398 C -0.47951 0.65532 -0.46927 0.6625 -0.45955 0.66736 C -0.42743 0.68356 -0.39705 0.69004 -0.36284 0.69328 C -0.34948 0.69444 -0.33593 0.6949 -0.32257 0.6956 C -0.28246 0.69166 -0.27257 0.69352 -0.23385 0.67824 C -0.13628 0.63912 -0.02413 0.53889 -0.00955 0.39444 C -0.01198 0.36828 -0.0085 0.36342 -0.01771 0.34722 C -0.025 0.33426 -0.03767 0.32916 -0.04826 0.32338 C -0.08403 0.30347 -0.1243 0.29421 -0.16284 0.28912 C -0.16823 0.28981 -0.17378 0.28889 -0.17899 0.2912 C -0.19097 0.29652 -0.18455 0.29791 -0.18871 0.30625 C -0.20017 0.32916 -0.21337 0.35115 -0.22569 0.37291 C -0.23194 0.39606 -0.2217 0.36227 -0.23229 0.38356 C -0.24201 0.40301 -0.22326 0.38194 -0.24028 0.39861 C -0.24323 0.41064 -0.25243 0.41852 -0.25798 0.42893 C -0.27621 0.46273 -0.29878 0.49143 -0.31614 0.52569 C -0.31909 0.53796 -0.32309 0.54977 -0.32569 0.56227 C -0.33316 0.59722 -0.33593 0.6368 -0.35156 0.66736 C -0.35486 0.70856 -0.35156 0.75092 -0.35156 0.79236 E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C 0.02083 -0.00648 0.04323 -0.0044 0.06458 -0.00857 C 0.08507 -0.01273 0.10538 -0.0213 0.12587 -0.0257 C 0.12951 -0.02755 0.13368 -0.02755 0.13715 -0.03009 C 0.15382 -0.04259 0.13195 -0.03218 0.14688 -0.03866 C 0.14844 -0.04005 0.15035 -0.0412 0.15174 -0.04306 C 0.15313 -0.04491 0.15347 -0.04792 0.15486 -0.04954 C 0.16163 -0.05764 0.17136 -0.06412 0.17917 -0.07083 C 0.20261 -0.09097 0.2217 -0.11852 0.24844 -0.13125 C 0.25174 -0.13542 0.25382 -0.14213 0.25816 -0.14398 C 0.26146 -0.14537 0.26788 -0.14838 0.26788 -0.14838 C 0.27986 -0.16435 0.29184 -0.14815 0.3033 -0.13982 C 0.31198 -0.13357 0.32274 -0.12894 0.33229 -0.12685 C 0.34028 -0.11898 0.34601 -0.11158 0.35486 -0.10741 C 0.36076 -0.10116 0.36563 -0.09329 0.37274 -0.09028 C 0.38299 -0.07153 0.37118 -0.08912 0.38403 -0.07963 C 0.38698 -0.07732 0.38924 -0.07361 0.39201 -0.07083 C 0.39618 -0.06644 0.40035 -0.06181 0.40486 -0.0581 C 0.40764 -0.05602 0.41042 -0.05417 0.41302 -0.05162 C 0.42274 -0.0419 0.41302 -0.04722 0.42274 -0.04306 C 0.42431 -0.04167 0.4257 -0.03958 0.42743 -0.03866 C 0.43056 -0.03681 0.43715 -0.03449 0.43715 -0.03449 C 0.45486 -0.01852 0.44288 -0.02546 0.47587 -0.02801 C 0.48229 -0.03357 0.48889 -0.03472 0.49531 -0.04074 C 0.50417 -0.04908 0.50868 -0.0588 0.51615 -0.06875 C 0.51806 -0.0713 0.52066 -0.07292 0.52274 -0.07523 C 0.53073 -0.08426 0.53663 -0.09722 0.54358 -0.10741 C 0.56146 -0.13403 0.57917 -0.16065 0.59531 -0.18912 C 0.59861 -0.20278 0.60538 -0.21088 0.61146 -0.22153 C 0.61493 -0.22755 0.61788 -0.23426 0.62101 -0.24074 C 0.6224 -0.24352 0.62309 -0.2507 0.62431 -0.2537 C 0.62726 -0.26111 0.63507 -0.27107 0.63715 -0.27963 C 0.63924 -0.28843 0.63767 -0.28426 0.64201 -0.29236 C 0.64636 -0.31065 0.64201 -0.32037 0.63403 -0.33333 C 0.62882 -0.34167 0.63281 -0.33866 0.62587 -0.3463 C 0.62031 -0.35232 0.61493 -0.35255 0.60816 -0.35486 C 0.59462 -0.35972 0.58195 -0.36296 0.56788 -0.36551 C 0.54722 -0.36389 0.54028 -0.36158 0.52274 -0.35695 C 0.52049 -0.35486 0.51858 -0.35208 0.51615 -0.35046 C 0.5132 -0.34838 0.5066 -0.3463 0.5066 -0.3463 C 0.49983 -0.33958 0.49236 -0.33727 0.48559 -0.33125 C 0.46667 -0.31435 0.44774 -0.29699 0.42917 -0.27963 C 0.41701 -0.26829 0.42274 -0.27199 0.41458 -0.26227 C 0.39844 -0.24329 0.38299 -0.22431 0.36788 -0.20417 C 0.36198 -0.1963 0.35729 -0.18704 0.35 -0.18056 C 0.34254 -0.16574 0.3467 -0.1706 0.33872 -0.16343 C 0.32691 -0.13958 0.3132 -0.11551 0.3066 -0.0882 C 0.30608 -0.08611 0.3033 -0.08681 0.30174 -0.08611 C 0.29844 -0.08472 0.29531 -0.0831 0.29201 -0.08171 C 0.28403 -0.07801 0.28576 -0.07616 0.27917 -0.06875 C 0.27257 -0.06134 0.26545 -0.05579 0.25816 -0.04954 C 0.25347 -0.04051 0.24844 -0.03843 0.24201 -0.03218 C 0.23281 -0.02315 0.23663 -0.02477 0.22431 -0.02153 C 0.22274 -0.02014 0.22118 -0.01806 0.21945 -0.01713 C 0.21736 -0.01597 0.21493 -0.01644 0.21302 -0.01505 C 0.20938 -0.01227 0.20677 -0.00741 0.2033 -0.00417 C 0.19688 0.0081 0.19427 0.00764 0.18559 0.01505 C 0.18316 0.01967 0.17969 0.02315 0.17743 0.02801 C 0.17483 0.03333 0.17101 0.04514 0.17101 0.04514 C 0.17049 0.04884 0.17049 0.05255 0.16945 0.05602 C 0.16875 0.05856 0.16701 0.06018 0.16615 0.0625 C 0.16406 0.06875 0.15972 0.08264 0.15972 0.09028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C -0.01233 -0.00532 -0.01962 -0.01643 -0.02917 -0.02801 C -0.04705 -0.04977 -0.06511 -0.07222 -0.08403 -0.09259 C -0.10504 -0.11504 -0.12708 -0.13727 -0.14844 -0.15926 C -0.15903 -0.17014 -0.17083 -0.1794 -0.18073 -0.19143 C -0.20851 -0.225 -0.23524 -0.25694 -0.26788 -0.28171 C -0.27188 -0.28981 -0.27188 -0.29421 -0.27743 -0.27754 C -0.28542 -0.25463 -0.28785 -0.23055 -0.29202 -0.20648 C -0.29427 -0.19491 -0.29445 -0.18264 -0.29844 -0.17199 C -0.31163 -0.13704 -0.31858 -0.09815 -0.33073 -0.0625 C -0.33698 -0.04421 -0.34462 -0.02731 -0.35 -0.00856 C -0.36285 -0.0419 -0.36945 -0.07824 -0.38229 -0.1118 C -0.40452 -0.16991 -0.42813 -0.22685 -0.45174 -0.28379 C -0.46545 -0.31643 -0.47761 -0.35046 -0.49358 -0.38079 C -0.52795 -0.44537 -0.5625 -0.50972 -0.59688 -0.5743 C -0.62083 -0.61921 -0.64115 -0.66759 -0.6632 -0.71389 C -0.66754 -0.72384 -0.67483 -0.75555 -0.6842 -0.76342 C -0.68559 -0.76273 -0.68767 -0.76296 -0.68872 -0.76134 C -0.69028 -0.75903 -0.68958 -0.75555 -0.69045 -0.75278 C -0.6934 -0.74352 -0.69618 -0.7368 -0.69844 -0.72685 C -0.71111 -0.60648 -0.68351 -0.4875 -0.66129 -0.37199 C -0.6507 -0.31666 -0.64358 -0.25486 -0.62257 -0.2044 C -0.61979 -0.19768 -0.60747 -0.18912 -0.60486 -0.18704 C -0.5599 -0.15208 -0.59879 -0.18333 -0.54531 -0.14629 C -0.47517 -0.09791 -0.40452 -0.05208 -0.33403 -0.0044 C -0.30972 0.01204 -0.29844 0.01574 -0.27604 0.02801 C -0.27118 0.03079 -0.26615 0.03357 -0.26129 0.03658 C -0.25938 0.03796 -0.25261 0.04005 -0.25486 0.04074 C -0.25938 0.04213 -0.26354 0.03935 -0.26788 0.03866 C -0.34115 0.00185 -0.41441 -0.03518 -0.48715 -0.07315 C -0.61337 -0.13912 -0.54184 -0.10856 -0.69045 -0.2 C -0.69636 -0.2037 -0.70261 -0.20694 -0.70816 -0.21088 C -0.71111 -0.21273 -0.71823 -0.22014 -0.71615 -0.21713 C -0.67327 -0.15347 -0.58837 -0.08333 -0.53559 -0.03009 C -0.39861 0.1081 -0.25608 0.23472 -0.1132 0.36134 C 0.00833 0.46875 -0.0566 0.41366 0.05156 0.50324 C 0.07101 0.51921 0.08646 0.54514 0.10798 0.55486 C 0.11094 0.55625 0.10347 0.54954 0.10139 0.5463 C 0.09479 0.53449 0.08923 0.5213 0.08212 0.50972 C 0.06927 0.48889 0.05625 0.46852 0.04184 0.44954 C -0.00156 0.39236 -0.04583 0.33681 -0.09045 0.28171 C -0.11806 0.24792 -0.14462 0.21273 -0.17431 0.18287 C -0.24479 0.1125 -0.31215 0.03634 -0.38559 -0.02801 C -0.46511 -0.09745 -0.54479 -0.1669 -0.62448 -0.23657 C -0.69167 -0.2956 -0.75538 -0.34884 -0.81458 -0.42153 C -0.80313 -0.39166 -0.78524 -0.36829 -0.77257 -0.33981 C -0.74896 -0.28657 -0.71927 -0.24236 -0.68872 -0.19583 C -0.65452 -0.14375 -0.61823 -0.09213 -0.57587 -0.05162 C -0.55799 -0.03472 -0.54097 -0.0169 -0.52431 0.00209 C -0.51215 0.01574 -0.52118 0.01134 -0.5099 0.01505 C -0.50156 0.02616 -0.49601 0.0419 -0.48403 0.04722 C -0.4717 0.07153 -0.44132 0.08912 -0.42431 0.10972 C -0.41736 0.11806 -0.41111 0.12176 -0.4033 0.12894 C -0.40017 0.13195 -0.39358 0.1375 -0.39358 0.1375 C -0.38976 0.14537 -0.38733 0.14584 -0.39844 0.1463 C -0.43455 0.14769 -0.47049 0.14769 -0.5066 0.14838 C -0.52917 0.15093 -0.54184 0.15278 -0.56129 0.15695 C -0.56875 0.16343 -0.57674 0.16783 -0.58403 0.17408 C -0.58993 0.17917 -0.59358 0.18496 -0.6 0.18912 C -0.60104 0.19121 -0.60208 0.19352 -0.60347 0.1956 C -0.60469 0.19792 -0.60677 0.19954 -0.60816 0.20209 C -0.60955 0.20463 -0.6099 0.2081 -0.61146 0.21065 C -0.61424 0.21667 -0.62101 0.22801 -0.62101 0.22801 C -0.62153 0.23009 -0.62118 0.2331 -0.62257 0.23426 C -0.62535 0.23681 -0.63247 0.23866 -0.63247 0.23866 C -0.63715 0.24491 -0.64149 0.24861 -0.64531 0.25579 C -0.63733 0.28287 -0.6007 0.30324 -0.58559 0.31389 C -0.52969 0.35301 -0.48681 0.38588 -0.42587 0.41505 C -0.35764 0.44769 -0.38368 0.43426 -0.34705 0.45371 C -0.34358 0.45301 -0.33577 0.45556 -0.33715 0.45162 C -0.34184 0.43889 -0.36615 0.41505 -0.37587 0.40648 C -0.41372 0.37408 -0.44983 0.34908 -0.49063 0.32477 C -0.50903 0.31366 -0.52604 0.29815 -0.54531 0.29028 C -0.5507 0.2882 -0.55608 0.28634 -0.56129 0.2838 C -0.56511 0.28195 -0.56875 0.2794 -0.57257 0.27732 C -0.57413 0.27639 -0.57917 0.27523 -0.57761 0.27523 C -0.56667 0.27523 -0.55608 0.27662 -0.54531 0.27732 C -0.525 0.28334 -0.50486 0.28935 -0.48403 0.29236 C -0.46875 0.29838 -0.4533 0.30324 -0.43715 0.30533 C -0.39931 0.32153 -0.32396 0.30926 -0.27917 0.30741 C -0.2382 0.30093 -0.1967 0.30972 -0.1566 0.29676 C -0.14827 0.28935 -0.14045 0.2838 -0.13073 0.27963 C -0.11858 0.26852 -0.13403 0.28148 -0.11945 0.27315 C -0.11771 0.27222 -0.11632 0.26991 -0.11458 0.26875 C -0.1132 0.26783 -0.11146 0.26736 -0.10972 0.26667 C -0.10226 0.25834 -0.09167 0.24607 -0.08229 0.24306 C -0.07031 0.22709 -0.05365 0.21644 -0.04358 0.19792 C -0.04306 0.19584 -0.04202 0.19144 -0.04202 0.19144 E">
                                      <p:cBhvr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40741E-007 C -0.0585 -0.0044 -0.11805 0.00185 -0.17569 -0.01296 C -0.24705 -0.03148 -0.31423 -0.0713 -0.38385 -0.09908 C -0.70816 -0.22778 -0.31093 -0.06065 -0.64184 -0.20185 C -0.75555 -0.36852 -0.69843 -0.30695 -0.671 0.24074 C -0.66718 0.31829 -0.61493 0.44352 -0.58524 0.49884 C -0.47725 0.70116 -0.32326 0.84259 -0.16284 0.96134 C -0.08663 1.01782 -0.01093 1.07801 0.07101 1.11829 C 0.15782 1.16088 0.25052 1.17847 0.34028 1.20856 C 0.55157 1.20648 0.76302 1.21227 0.97431 1.20208 C 0.98073 1.20185 0.97066 1.18472 0.96615 1.17847 C 0.95834 1.16759 0.94861 1.15949 0.93872 1.15254 C 0.87535 1.1081 0.84584 1.09861 0.77101 1.07963 C 0.61684 1.04051 0.46268 1.03796 0.30643 1.03426 C -0.01493 1.03727 -0.31788 1.04467 -0.63541 1.09467 C -0.64878 1.10764 -0.67066 1.11227 -0.67569 1.13333 C -0.68159 1.15787 -0.68177 1.20393 -0.66284 1.20856 C -0.58125 1.2287 -0.49705 1.20139 -0.41441 1.19792 C -0.2217 1.17361 -0.01666 1.16829 0.15973 1.05162 C 0.18108 1.02315 0.11962 1.01829 0.11459 1.01713 C -0.13316 0.96273 0.229 1.05208 -0.10798 0.96134 C -0.16441 0.94606 -0.22135 0.93518 -0.27743 0.91829 C -0.41979 0.87523 -0.50712 0.83542 -0.6467 0.77847 C -0.66527 0.72592 -0.68767 0.69537 -0.67413 0.63657 C -0.67291 0.63102 -0.66562 0.63495 -0.66128 0.63426 C -0.40052 0.64028 -0.1467 0.66921 0.11302 0.70532 C 0.15122 0.70324 0.18941 0.70208 0.22743 0.69884 C 0.24479 0.69722 0.25608 0.67222 0.27101 0.66018 C 0.28594 0.64815 0.30209 0.63866 0.31771 0.62801 C 0.31823 0.6 0.3283 0.56944 0.31945 0.54398 C 0.27865 0.42754 0.17396 0.35856 0.1 0.29884 C -0.05243 0.17569 -0.20642 0.05648 -0.35972 -0.06458 C -0.42621 -0.11713 -0.50034 -0.15093 -0.56927 -0.19792 C -0.60555 -0.22269 -0.64027 -0.25232 -0.67569 -0.27963 C -0.67517 -0.33333 -0.69218 -0.39283 -0.67413 -0.44097 C -0.66632 -0.46204 -0.64305 -0.41852 -0.62899 -0.4044 C -0.53854 -0.3132 -0.45087 -0.21736 -0.36128 -0.12477 C -0.34618 -0.10926 -0.23177 0.01157 -0.18541 0.04722 C -0.11493 0.10139 -0.06198 0.13055 0.01771 0.16759 C 0.09844 0.20532 0.48264 0.37592 0.61129 0.43009 C 0.90243 0.55301 0.75504 0.47083 0.97431 0.60856 C 0.97379 0.66805 0.99358 0.73449 0.97257 0.78704 C 0.96233 0.8125 0.92952 0.7787 0.90816 0.77407 C 0.86667 0.76504 0.82552 0.75347 0.78386 0.74629 C 0.72275 0.73565 0.66146 0.72754 0.6 0.72037 C 0.30712 0.68588 0.01389 0.65995 -0.27899 0.62569 C -0.30434 0.62639 -0.33246 0.61227 -0.35486 0.62801 C -0.36805 0.63727 -0.32743 0.64467 -0.31284 0.64954 C -0.26441 0.66597 -0.21562 0.68241 -0.16614 0.69236 C -0.10086 0.70532 -0.03507 0.71111 0.03073 0.71829 C 0.31962 0.74954 0.2691 0.74329 0.53559 0.74838 C 0.65834 0.74467 0.77934 0.75972 0.89358 0.69467 C 0.90382 0.63472 0.84792 0.58495 0.81771 0.55903 C 0.73039 0.48356 0.57848 0.41852 0.48872 0.38704 C 0.11216 0.25509 -0.28767 0.21574 -0.67569 0.20208 C -0.62066 0.2625 -0.54201 0.25879 -0.47552 0.27083 C -0.22986 0.26667 0.13021 0.30185 0.35486 0.10741 C 0.38039 0.08542 0.4 0.05301 0.42257 0.02569 C 0.43177 -0.00949 0.44757 -0.04259 0.45 -0.07963 C 0.45573 -0.16389 0.429 -0.30139 0.38073 -0.35926 C 0.34497 -0.40208 0.29358 -0.41366 0.25 -0.44097 C -0.0585 -0.43958 -0.36753 -0.45903 -0.67569 -0.43658 C -0.69166 -0.43542 -0.67031 -0.39421 -0.66441 -0.37431 C -0.64843 -0.32037 -0.61337 -0.25371 -0.58524 -0.21296 C -0.52795 -0.12894 -0.46718 -0.04954 -0.40798 0.03217 C -0.37291 0.08055 -0.32725 0.11319 -0.28871 0.15694 C -0.15173 0.31227 0.04132 0.5081 0.14514 0.72245 C 0.1382 0.76065 0.14497 0.74884 0.09028 0.72685 C 0.02084 0.69907 -0.04739 0.66667 -0.11614 0.63657 C -0.20868 0.59606 -0.30347 0.56504 -0.39826 0.53542 C -0.62604 0.46412 -0.53854 0.47917 -0.65642 0.46227 C -0.67257 0.46991 -0.66909 0.46643 -0.62899 0.49236 C -0.59826 0.51227 -0.56701 0.53032 -0.53524 0.54629 C -0.48628 0.5706 -0.43663 0.59213 -0.38698 0.61296 C -0.11198 0.72778 0.16164 0.84259 0.43559 0.96134 C 0.48247 0.98171 0.529 1.00301 0.57587 1.02361 C 0.59896 1.03379 0.62205 1.04375 0.64514 1.0537 C 0.6474 1.05463 0.65417 1.05833 0.65174 1.0581 C 0.56059 1.04745 0.47431 0.99954 0.38559 0.96991 C 0.32049 0.94815 0.25556 0.92639 0.19028 0.90532 C -0.04705 0.82893 -0.28246 0.76736 -0.52743 0.75903 C -0.54861 0.75972 -0.62257 0.73727 -0.63385 0.78912 C -0.6184 0.90116 -0.46962 0.93657 -0.40972 0.95694 C -0.23385 1.0169 -0.05764 1.03009 0.12257 1.04514 C 0.24202 1.03981 0.31216 1.04467 0.41771 0.97407 C 0.42309 0.95903 0.43229 0.94537 0.43386 0.92893 C 0.44427 0.82245 0.33507 0.70787 0.28872 0.65579 C 0.03611 0.37222 -0.26892 0.18704 -0.56284 -0.00648 C -0.60052 -0.0632 -0.64982 -0.10903 -0.67569 -0.17639 C -0.68941 -0.21181 -0.70121 -0.27917 -0.67413 -0.29653 C -0.63055 -0.32454 -0.57847 -0.27454 -0.53055 -0.26875 C -0.35781 -0.24792 -0.18906 -0.21597 -0.01927 -0.16783 C 0.05486 -0.14676 0.23316 -0.09283 0.31129 -0.05602 C 0.36302 -0.03148 0.51754 0.03912 0.46302 0.03009 C 0.36476 0.01366 0.26806 -0.00903 0.16945 -0.02153 C 0.12639 -0.02037 0.05886 -0.03403 0.02431 0.01296 C 0.0165 0.06944 0.03299 0.10347 0.06459 0.14838 C 0.10834 0.21065 0.20608 0.30671 0.25486 0.35046 C 0.39184 0.47384 0.54948 0.58194 0.69202 0.68379 C 0.74653 0.72268 0.89271 0.82754 0.9533 0.84722 C 0.86354 0.75023 0.73004 0.68981 0.62431 0.64074 C 0.46111 0.56504 0.29636 0.49606 0.13229 0.42361 C -0.05 0.34329 -0.23871 0.29236 -0.42413 0.22569 C -0.49184 0.20139 -0.62743 0.15046 -0.62743 0.15046 C -0.64357 0.13403 -0.66284 0.12176 -0.67569 0.10092 C -0.68159 0.09143 -0.65885 0.11042 -0.65 0.11389 C -0.62222 0.12477 -0.59444 0.13634 -0.56614 0.14398 C -0.52222 0.15579 -0.47812 0.16458 -0.43368 0.17199 C -0.30225 0.19398 -0.17048 0.21273 -0.03871 0.23217 C 0.25382 0.27546 0.54601 0.29074 0.84028 0.30092 C 1.03264 0.28935 0.92552 0.29213 0.86459 0.28819 C 0.53386 0.29074 0.20851 0.29629 -0.121 0.3162 C -0.25364 0.33264 -0.34896 0.33565 -0.46753 0.41296 C -0.49826 0.48842 -0.46771 0.54259 -0.42413 0.59143 C -0.31666 0.71134 -0.17448 0.7794 -0.05 0.8537 C -0.02257 0.86991 0.00643 0.88102 0.03386 0.89676 C 0.05382 0.9081 0.09202 0.93542 0.09202 0.93542 C 0.07657 0.9419 0.05486 0.92708 0.04202 0.92245 C -0.07014 0.88241 -0.02569 0.9081 -0.07569 0.87731 C -0.07274 0.86111 -0.07482 0.86412 -0.05642 0.85162 C -0.02708 0.83148 0.18889 0.69259 0.21945 0.67315 C 0.45157 0.525 0.74028 0.37153 0.92101 0.12037 C 0.9415 0.0919 0.9566 0.05717 0.97431 0.02569 C 0.97292 -0.03611 0.98507 -0.12269 0.95 -0.17847 C 0.89271 -0.26898 0.78334 -0.31134 0.70174 -0.33542 C 0.54427 -0.38195 0.37813 -0.38704 0.21771 -0.39352 C 0.15382 -0.39607 0.08976 -0.39653 0.02587 -0.39792 C -0.21319 -0.39283 -0.4401 -0.39236 -0.67569 -0.35046 C -0.67083 -0.31945 -0.66996 -0.28727 -0.66128 -0.2581 C -0.64826 -0.21435 -0.60434 -0.16875 -0.57743 -0.14838 C -0.50139 -0.08982 -0.42291 -0.06111 -0.33698 -0.03449 C -0.07986 0.04514 0.18247 0.07129 0.44514 0.08588 C 0.6 0.08264 0.75018 0.09792 0.9 0.04954 C 0.9132 0.0375 0.88941 0.0375 0.85643 0.03426 C 0.81719 0.03055 0.77795 0.02731 0.73872 0.02569 C 0.67743 0.02315 0.61615 0.02292 0.55486 0.02153 C 0.14445 0.025 -0.26545 0.02847 -0.67569 0.04514 C -0.67222 0.10231 -0.67031 0.15069 -0.62743 0.17847 C -0.61614 0.18588 -0.60434 0.19305 -0.59166 0.1956 C -0.56527 0.20092 -0.53819 0.2 -0.51128 0.20208 C -0.37673 0.19282 -0.30902 0.1956 -0.19027 0.16991 C -0.15399 0.16204 -0.11823 0.15185 -0.08229 0.1419 C -0.06927 0.13819 -0.05642 0.13379 -0.04357 0.12893 C -0.04132 0.12801 -0.03455 0.1243 -0.03698 0.12477 C -0.10399 0.13472 -0.17031 0.14977 -0.23698 0.16342 C -0.38333 0.19329 -0.67569 0.25579 -0.67569 0.25579 C -0.65156 0.23217 -0.62691 0.20926 -0.60312 0.18495 C -0.60104 0.18287 -0.60052 0.17454 -0.59826 0.17639 C -0.58854 0.18356 -0.58402 0.2 -0.57413 0.20648 C -0.50694 0.24977 -0.48264 0.24491 -0.40972 0.25579 C -0.11284 0.23102 0.16111 0.12129 0.42431 -0.06667 C 0.5382 -0.14792 0.66528 -0.2331 0.70486 -0.40857 C 0.68021 -0.41296 0.69254 -0.41389 0.65643 -0.38935 C 0.59323 -0.3463 0.53073 -0.30139 0.46771 -0.2581 C 0.21875 -0.08704 -0.0625 0.08565 -0.1967 0.43403 C -0.1993 0.45301 -0.21302 0.49977 -0.19027 0.5118 C -0.18576 0.51412 -0.18055 0.51319 -0.17569 0.51389 C -0.07482 0.49629 -0.14288 0.51111 0.05 0.42801 C 0.06875 0.41967 0.25539 0.33727 0.28229 0.32245 C 0.36111 0.27917 0.38733 0.26829 0.45486 0.22153 C 0.4724 0.20949 0.48941 0.19629 0.50643 0.18287 C 0.51216 0.17847 0.52917 0.16829 0.52257 0.16759 C 0.51042 0.1662 0.49896 0.17592 0.48716 0.18055 C 0.46077 0.19097 0.43473 0.20278 0.40816 0.21296 C 0.31424 0.24884 0.21997 0.28333 0.12587 0.31829 C -0.01875 0.37222 -0.17951 0.41204 -0.30312 0.53125 C -0.33767 0.62129 -0.171 0.61366 -0.15486 0.61504 C 0.04375 0.6331 0.24306 0.62893 0.44202 0.63866 C 0.47483 0.64305 0.50747 0.64815 0.54028 0.65162 C 0.60643 0.65856 0.56754 0.64907 0.59358 0.65579 C 0.55851 0.67917 0.52882 0.68171 0.48872 0.69467 C 0.45417 0.70579 0.42032 0.72106 0.38559 0.73125 C 0.15122 0.80046 0.16198 0.79213 -0.021 0.83866 C -0.09896 0.85833 -0.12656 0.86412 -0.1967 0.89028 C -0.21024 0.89537 -0.22361 0.90139 -0.23698 0.90741 C -0.23975 0.90856 -0.24809 0.9118 -0.24514 0.9118 C -0.18437 0.90949 -0.12361 0.9037 -0.06284 0.90092 C -0.01024 0.89861 0.04254 0.89815 0.09514 0.89676 C 0.20695 0.89954 0.31893 0.90417 0.43073 0.90532 C 0.45816 0.90555 0.54011 0.90741 0.51302 0.90092 C 0.47431 0.89167 0.43438 0.89815 0.39514 0.89676 C 0.29462 0.89745 0.1941 0.8956 0.09358 0.89884 C 0.08473 0.89907 0.07639 0.90949 0.06771 0.90741 C 0.05382 0.90393 0.04584 0.8831 0.03386 0.87315 C 0.00313 0.84792 -0.03264 0.83472 -0.06284 0.80856 C -0.09166 0.78379 -0.07986 0.78935 -0.09514 0.78287 C -0.07396 0.74467 -0.09271 0.77338 -0.00798 0.77639 C 0.02691 0.77754 0.06198 0.7794 0.09688 0.78055 C 0.14532 0.78217 0.19358 0.78356 0.24202 0.78495 C 0.41789 0.79606 0.59375 0.80301 0.76945 0.81921 C 0.81354 0.82338 0.85764 0.82662 0.90174 0.83217 C 0.92604 0.83518 0.95191 0.83217 0.97431 0.84514 C 0.99306 0.85602 0.93334 0.84167 0.91302 0.83866 C 0.66476 0.80301 0.93507 0.83403 0.63073 0.8 C 0.45608 0.78055 0.28143 0.77292 0.10643 0.76134 C -0.02343 0.7625 -0.16146 0.74467 -0.28541 0.81065 C -0.30347 0.82014 -0.33923 0.83264 -0.35156 0.85579 C -0.31597 0.87268 -0.34635 0.85926 -0.24826 0.8537 C -0.02951 0.84143 -0.18698 0.84792 -0.05798 0.84305 C 0.00521 0.83634 -0.01371 0.85185 0.00816 0.83217 C -0.01875 0.82778 -0.04375 0.825 -0.071 0.82361 C -0.12951 0.8243 -0.18819 0.82245 -0.2467 0.82569 C -0.31371 0.8294 -0.37968 0.8537 -0.44652 0.8581 C -0.45538 0.86018 -0.46389 0.8625 -0.47257 0.86458 C -0.47587 0.86528 -0.48559 0.86667 -0.48229 0.86667 C -0.2092 0.8618 -0.46527 0.86412 -0.21771 0.85579 C -0.06597 0.85069 0.08542 0.84907 0.23716 0.84074 C 0.25 0.83796 0.26302 0.83565 0.27587 0.83217 C 0.27917 0.83125 0.28351 0.83148 0.28559 0.82801 C 0.28768 0.8243 0.28403 0.8206 0.26945 0.81713 C 0.25816 0.81458 0.24705 0.81157 0.23559 0.81065 C 0.21354 0.80879 0.1915 0.80926 0.16945 0.80856 C 0.08802 0.81042 0.00973 0.82129 -0.071 0.83217 C -0.09392 0.84028 -0.10347 0.84305 -0.121 0.86018 C -0.13107 0.88796 -0.12291 0.86042 -0.08229 0.84954 C -0.03159 0.83588 -0.02378 0.83449 0.03073 0.81713 C 0.08403 0.80023 0.13698 0.78241 0.19028 0.76551 C 0.23507 0.75139 0.28681 0.74467 0.32431 0.70532 C 0.31285 0.675 0.2757 0.67778 0.25486 0.67523 C 0.20712 0.66921 0.08299 0.65972 0.04358 0.6581 C -0.0467 0.65417 -0.22743 0.64954 -0.22743 0.64954 C -0.30764 0.65185 -0.39132 0.62963 -0.46753 0.66227 C -0.47291 0.68379 -0.48368 0.70185 -0.49027 0.72245 C -0.49271 0.73009 -0.49548 0.74977 -0.4967 0.75694 C -0.496 0.76921 -0.4967 0.78148 -0.49496 0.79352 C -0.49271 0.81088 -0.47621 0.81528 -0.46614 0.81713 C -0.4026 0.80417 -0.33767 0.78935 -0.27899 0.75254 C -0.24427 0.73079 -0.20885 0.70532 -0.18698 0.66227 C -0.18281 0.63403 -0.18871 0.60301 -0.18055 0.57639 C -0.175 0.55833 -0.13784 0.52454 -0.12569 0.51389 C -0.03819 0.4368 -0.02777 0.42893 0.04844 0.36551 C 0.15313 0.27847 0.24393 0.19282 0.33559 0.07963 C 0.39653 0.00417000000000001 0.44098 -0.0882 0.48872 -0.17847 C 0.50903 -0.2169 0.52882 -0.25463 0.55 -0.29259 C 0.55677 -0.30463 0.56302 -0.31667 0.56945 -0.32917 C 0.57118 -0.33264 0.575 -0.34398 0.57431 -0.33982 C 0.56841 -0.30232 0.55261 -0.26597 0.54358 -0.22986 C 0.52552 -0.1581 0.52049 -0.0794 0.5 -0.00857 C 0.48993 0.02616 0.47691 0.06389 0.46129 0.09467 C 0.45834 0.10046 0.45469 0.10602 0.45174 0.1118 C 0.4467 0.12176 0.43716 0.1419 0.43716 0.1419 C 0.43108 0.16713 0.43368 0.15162 0.47431 0.11829 C 0.50348 0.09444 0.53316 0.07129 0.56129 0.04514 C 0.65191 -0.03912 0.73907 -0.12778 0.82431 -0.22153 C 0.86302 -0.26412 0.85573 -0.25301 0.88559 -0.29653 C 0.88889 -0.30162 0.89219 -0.30648 0.89514 -0.31181 C 0.89705 -0.31528 0.90261 -0.325 0.9 -0.32246 C 0.87674 -0.30278 0.8625 -0.2382 0.85 -0.21296 C 0.82309 -0.15833 0.79236 -0.10741 0.76459 -0.05371 C 0.7467 -0.01921 0.73264 0.01875 0.71302 0.05162 C 0.65122 0.15555 0.59115 0.26157 0.52743 0.36342 C 0.47448 0.44815 0.41441 0.5294 0.36615 0.61921 C 0.35643 0.63727 0.34636 0.65463 0.33716 0.67315 C 0.33229 0.68287 0.32865 0.69329 0.32431 0.70324 C 0.32275 0.70694 0.31754 0.71713 0.31945 0.71389 C 0.35191 0.66111 0.37379 0.5956 0.40174 0.53981 C 0.49219 0.35995 0.45243 0.43958 0.52101 0.30092 C 0.54636 0.24977 0.57101 0.19745 0.59028 0.1419 C 0.60382 0.10324 0.61893 0.06551 0.63073 0.02569 C 0.63386 0.01504 0.63733 0.0044 0.64028 -0.00648 C 0.64219 -0.01343 0.64358 -0.02083 0.64514 -0.02801 C 0.64584 -0.03148 0.64966 -0.03866 0.64688 -0.03866 C 0.64306 -0.03866 0.64098 -0.03218 0.63872 -0.02801 C 0.59948 0.04213 0.57969 0.08379 0.54202 0.15254 C 0.46789 0.2875 0.39306 0.42106 0.34028 0.57407 C 0.30834 0.66667 0.29028 0.76134 0.27431 0.86018 C 0.27101 0.90532 0.26337 0.95254 0.26615 0.99792 C 0.30504 0.90139 0.35157 0.82477 0.38559 0.72245 C 0.43264 0.58055 0.48212 0.44514 0.50643 0.29236 C 0.51233 0.25486 0.51511 0.21643 0.51945 0.17847 C 0.51528 0.06574 0.52709 -0.02685 0.47257 -0.11412 C 0.45382 -0.14398 0.43542 -0.16505 0.40643 -0.17639 C 0.38872 -0.1831 0.36997 -0.18357 0.35174 -0.18704 C 0.19479 -0.18287 0.04966 -0.12755 -0.0967 -0.05371 C -0.25451 0.02592 -0.41823 0.11504 -0.56284 0.23217 C -0.6026 0.26435 -0.63802 0.30532 -0.67569 0.3419 C -0.67552 0.39421 -0.68489 0.60139 -0.671 0.7162 C -0.55 0.52731 -0.40729 0.37292 -0.27257 0.20208 C -0.23906 0.15972 -0.20034 0.12523 -0.16614 0.08379 C -0.0651 -0.03866 -0.00607000000000001 -0.11158 0.07431 -0.23426 C 0.10504 -0.28148 0.13125 -0.32315 0.14844 -0.38079 C 0.14497 -0.39445 0.1467 -0.39421 0.129 -0.37199 C 0.06719 -0.29491 0.03854 -0.2507 -0.01614 -0.17199 C -0.1276 -0.01204 -0.22934 0.15717 -0.33055 0.32893 C -0.3559 0.37199 -0.38298 0.41319 -0.40642 0.4581 C -0.44982 0.5412 -0.49375 0.62407 -0.5368 0.70741 C -0.55 0.73287 -0.56371 0.7581 -0.57569 0.78495 C -0.58472 0.80579 -0.59444 0.82616 -0.60312 0.84722 C -0.60555 0.85347 -0.61371 0.87129 -0.60972 0.86667 C -0.59444 0.84954 -0.58281 0.82801 -0.56927 0.80856 C -0.50538 0.71667 -0.43142 0.63796 -0.36441 0.55046 C -0.29305 0.45741 -0.22205 0.36597 -0.16128 0.26018 C -0.13715 0.21829 -0.11493 0.1743 -0.09184 0.13125 C -0.08836 0.12477 -0.08611 0.11713 -0.08385 0.10972 C -0.08229 0.10486 -0.07691 0.09305 -0.08055 0.09467 C -0.08663 0.09722 -0.08993 0.10671 -0.09357 0.11389 C -0.16111 0.2456 -0.15538 0.24676 -0.21927 0.36342 C -0.3184 0.54421 -0.42777 0.72129 -0.49166 0.93125 C -0.52291 1.03287 -0.52882 1.08241 -0.54496 1.18055 C -0.521 1.25023 -0.53854 1.22199 -0.42569 1.20208 C -0.38871 1.1956 -0.30451 1.15463 -0.27257 1.1375 C -0.1217 1.05625 0.03039 0.95972 0.15816 0.82361 C 0.21285 0.76528 0.25122 0.71829 0.28559 0.64074 C 0.28664 0.63426 0.28785 0.62801 0.28872 0.62153 C 0.28941 0.61713 0.29289 0.60579 0.29028 0.60856 C 0.28056 0.61875 0.26094 0.66342 0.25486 0.67523 C 0.24271 0.69838 0.22969 0.7206 0.21771 0.74398 C 0.15712 0.86296 0.08438 0.99097 0.05174 1.13125 C 0.04514 1.18866 0.1165 1.10995 0.16459 1.07523 C 0.3816 0.91852 0.15591 1.07523 0.40973 0.90324 C 0.59289 0.77917 0.8165 0.65717 0.92257 0.40856 C 0.92275 0.40787 0.92986 0.37569 0.92257 0.36991 C 0.92014 0.36805 0.91719 0.37268 0.91459 0.37407 C 0.85955 0.45879 0.81198 0.55301 0.75973 0.64074 C 0.73907 0.67546 0.6165 0.8743 0.59688 0.90532 C 0.56771 0.95092 0.5375 0.99537 0.50816 1.04074 C 0.4816 1.08194 0.45539 1.12384 0.429 1.16551 C 0.41441 1.18842 0.38924 1.19421 0.36945 1.20856 C 0.34844 1.20787 0.32726 1.20949 0.30643 1.20648 C 0.30452 1.20625 0.30851 1.20208 0.30973 1.2 C 0.31598 1.18912 0.32309 1.17893 0.329 1.16759 C 0.38021 1.06921 0.38438 1.0544 0.429 0.96759 C 0.53039 0.76991 0.65695 0.59768 0.71615 0.36759 C 0.71893 0.34514 0.72709 0.31157 0.71615 0.29028 C 0.68247 0.30069 0.67674 0.31643 0.64688 0.3419 C 0.61719 0.36713 0.58733 0.39213 0.55643 0.41504 C 0.55 0.41967 0.50504 0.45162 0.49202 0.46435 C 0.48681 0.46967 0.48212 0.47569 0.47743 0.48171 C 0.47309 0.48727 0.46459 0.49884 0.46459 0.49884 C 0.47136 0.47106 0.46476 0.49954 0.46945 0.47523 C 0.46979 0.47315 0.47101 0.46875 0.47101 0.46875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YOU WI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1752480" y="1828800"/>
            <a:ext cx="5562720" cy="4876920"/>
          </a:xfrm>
          <a:prstGeom prst="smileyFace">
            <a:avLst>
              <a:gd name="adj" fmla="val 9282"/>
            </a:avLst>
          </a:prstGeom>
          <a:solidFill>
            <a:srgbClr val="fe94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4343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Jokerman"/>
              </a:rPr>
              <a:t>You l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219320"/>
            <a:ext cx="7619760" cy="5638680"/>
          </a:xfrm>
          <a:prstGeom prst="smileyFace">
            <a:avLst>
              <a:gd name="adj" fmla="val -465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8560" y="57906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llposter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7672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1828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play ag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4Z</dcterms:created>
  <dc:creator>CGB</dc:creator>
  <dc:description/>
  <dc:language>en-US</dc:language>
  <cp:lastModifiedBy>CGB</cp:lastModifiedBy>
  <dcterms:modified xsi:type="dcterms:W3CDTF">2008-06-11T13:43:47Z</dcterms:modified>
  <cp:revision>6</cp:revision>
  <dc:subject/>
  <dc:title>The Cat &amp; Mouse Game</dc:title>
</cp:coreProperties>
</file>